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76C-9C4D-4038-8496-FC46ADDF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738-D7AF-400D-A49E-C947BD20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359-4994-4724-AA7D-8333967E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85E-37DA-4080-8F56-B07E84E9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5BAC-504F-4E17-B992-2ABDE922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BA05-7158-4D2E-A27A-C1A7402B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7DCE-2227-4ED5-A36C-36A34209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8C54-3364-4AC5-8D70-310334E7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9242-DAE1-41BD-B2E0-9A594A0C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2A59-BAD3-49B8-A118-5B527155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369E-1544-4848-B994-0FDF0B73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542-4873-4904-B3DA-67E81F41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9A0E-A4E9-4183-A33B-5395F235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C203-E063-4D89-89B0-04F3DEDA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9DAC-E3D6-424B-95F7-92544B60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22D4-CC68-4297-AB09-C0844FA9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F06F-B32A-4C6B-BC77-575A637F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5AB-D6AB-4490-8CC4-019D5784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192-4E6B-4B6E-9559-23C65DD0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319-F53A-45E8-93B0-EA6A4B28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7008-69D2-4C47-A170-279F7019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BE8-195E-4F26-BDA4-8F34D29E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90F-EB62-402B-9E96-6B8445C0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74B-09E2-492F-938F-E5B4F146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A6EB-0435-47C3-9178-B408E7C34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1BA-22D2-421A-8D12-ED1BF47D4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mai bevétel, kiadás későbbi időpontra való felértékeléséhez a kamatfaktorokat használjá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gyszerű kamatfaktor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(ma már ritkán használják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   = 1 + i • n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hol:    i : a kamatláb, tizedestört alakb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n: az évek szá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amatos kamatfaktor: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a kamat évenkénti tőkésítésével,a dinamikus gazdaságossági számításokban általában használ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                n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   = (1 + i )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iszkontfaktor: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kamatfaktor reciproka, az időben visszafelé történő átszámításnál használják. Képlete kamatos kamatszámítássa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       1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   = ---------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(1 + 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zdaságossági számításokhoz bármely dinamikus módszer alkalmazható, de a felkamatolásnak, vagy a diszkontálásnak mind a ráfordítások, mind az eredmény szempontjából mindig egy azonos időpontra kell történnie (vetítési pon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gazdaságossági mutató alakja dinamikus jellegű gazdaságossági vizsgálat esetén , jövőbeni eseményeket feltételezve és azt jelenértékre átszámítv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         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Σ Et * D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dinj = 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          t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Σ Rt * D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hol:    t: a folyó év sorszámát kifejező in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: a számításba vett időhorizont, évek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en mutató szerint mind az eredmények, mind pedig a ráfordítások részértékeit évenként diszkontálják, a ráfordítások előfordulásának első évére, rendszerint a beruházások, fejlesztések elkezdésének évére, és az így kapott értékeket összegzik, majd egymáshoz viszonyítjá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sik módszer: a számítások kiinduló pontját a gyártás megindításának éve jelenti. Ebben az esetben a ráfordításokat a termelés megindításának az időpontjára felkamatolják, a termelés és értékesítés során realizált eredményeket pedig ugyanerre az időpontra diszkontáljá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           t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Σ Et * D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=m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dinb = ----------------  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          m-t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Σ Rt * K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=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tólagos elemzéseknél mind a ráfordításokat, mind az eredményeket az időhorizont végére felkamatoljá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          n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Σ Et *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dinjöv = 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          n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Σ Rt *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=1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ltalános esetben a ráfordítások és a hozamok az idő függvényében különböző időpontokban és értékekben jelennek me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érési, vetítési időpontra történő átszámításuk minden egyes tétel külön-külön kezelését igény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zköze a kamatszámítás és diszkontálá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őkeérték, vagy nettó jelenérték módszer a ráfordítások és eredmények jelenértékének egyenlegét határozza meg, és a beruházást akkor tekinti gazdaságosnak, ha ez az érték pozitív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ott vállalat 4OO MFt beruházást hajt végre, amelynek átfutási ideje 3 év. a negyedik évben kezdődő és folyamatosan 4 évig tartó termelés időszakában a terv szerint évenként 130 MFt nettó hozamot (eredményt) realizálnak. A beruházás (ráfordításai), majd az azt követő tervezett eredmény időbeli lefolyása a következő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. év Beruházás       120 MFt ráfordítá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é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150 M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é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130 M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. év Termelé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10 MFt eredmé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. é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40 M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6. é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50 M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7. é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30 M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0/400= 1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hát az eredmény meghaladja a ráfordítást, vagyis : Gazdasá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! 7 éves átfutásnál nem hagyhatjuk figyelmen kívül az idő tényező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ért vizsgáljuk meg dinamikus módszerrel is ugyanezt a beruházást, a következő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ltételezése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let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 ráfordítások és az eredmények is a tárgyév végén, egy összegben merülnek f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z összehasonlítás alapja (időpontja) a beruházások befejező évének vége, illetve a termelés megindulási évének ele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z egyszerű kamatfaktorral végezzük a számít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 kamatláb 2O%-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uházáson tárgyi eszközök  létesítésének, beszerzésének és üzembe helyezésének folyamatát, illetve ráfordításait értjü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ruházott eszközök jellemzője, hogy egy évet meghaladóan szolgálják a vállalkozás érdekeit, és értéküket folyamatosan adják át az általuk előállított termékeknek, szolgáltatásokn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110      140       150         1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-----+  ------+    ----- +      -----    357,6 M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1+0,2  1+2x0,2 1+3x0,2 1+4x0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130 x 1 + 150 x 1,2 + 120 x 1,4 = 478 M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357,6/478                                  =   74,8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Így már gazdaságtalan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0/1,2 + 140/1,44 + 150/1,728 + 130/2,0736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1,66 + 97,22 + 86,80 + 62,69 = 338,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0 + 180 + 172,8                    = 482,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8,37/482,80 =                           70,08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Így még gazdaságtalanabb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ális ese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eruházás gazdaságossági vizsgálatokban a jövőbeni hozamok tervezésénél gyakran élnek azzal a feltételezéssel, hogy azok időben egyenletesen merülnek f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gyanakkor a beruházásokat, mint pontberuházást kezelik, és jelenértéküket adottnak tekintik. Ez a helyzet a gazdaságosság megítélésében az általános esettől eltérő, más kérdéseket is felvet, a számításokat pedig némileg módosítja. Ezt a problémát egyben az időtényező speciális megjelenési formájának is lehet tekinteni a gazdaságossági vizsgálatokb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ltalánosítva, a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yszeri és folyamatos ráfordítások, ill. hozamo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bevetésének, összeadhatóságának a problémája minden olyan tevékenység gazdaságosságának vizsgálatánál jelentkezik, amelyben mindkét fajtájú ráfordítás, ill. hozam felmerü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ldául hitelből megvalósítandó beruházás esetén az egyszeri hitelfelvételt rendszeresen - mintegy folyamatosan - követi a hitel visszafizetése, mégpedig időközönként egyenlő összegekb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uházást abban az esetben szabad indítani, ha annak eredményeként elérhető hozamokból a megállapított (egyenlő) törlesztő részleteket a vállalat vissza tudja fizetni a lejárati idő alat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gyszeri beruházás és a folyama­tosan felmerülő hozamok, ill. költségek egyenértékűségét a követ­kező egyenlet fejezi k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b = B • 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hol:    Kb: az éves átlagos tőkekölt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: az egyszeri ráfordítás, beruházá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q:   törlesztőfa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gyszeri ráfordítások átalakítására a matematikából ismert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rlesztőfaktort,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t az egységnyi tőke és kamatos kamatai mértani sorának összegképlete, reciprok alakban kifejezett formáját használjá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örlesztőfaktort más megfogalmazásban mint egységnyi befektetés után fizetendő járadékot, annuitást szokás definiál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q =</a:t>
            </a: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i • (1 + 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1 + 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hol:     q: a törlesztőfakt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: a figyelembe vett kamatláb tizedestört alakban, azaz a ráfordítástól megkövetelt hatékonysá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: a figyelembe vett időtartam, időhorizont évekb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örlesztőfaktor használatának módszerével a gazdasági döntésekben, számításokban lényegében az időtényezőt veszik figyelemb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örlesztőfaktor számszerű értéke matematikai táblázatokból kivehető, vagy a fenti képlet segítségével kiszámíthat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örlesztőfaktor magába foglalja egyrészt a ráfordítás (kölcsön) egy évi megtérülését (részletét), másrészt a ráfordítás kamatos kamatait 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n = 1, vagyis a kölcsönt egy év múlva vissza kell fizetni, akkor az egy évre számított tőkeköltség megegyezik a kölcsön és annak egy évi kamatának együttes össze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ott példát tekintve a következő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érdése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hetők f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mekkora törlesztő részletet kell fizetni a felvett hitel után, adott kamat mellett, a lejárati idő alat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mennyi ideig kell törleszteni a felvett hitelt, adott részletek és kamat mellet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dott hitel, részletek és lejárati idő mellett mekkora a kalkulált kamatlá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gyanezek a kérdések úgy is megfogalmazhatók, hogy a saját forrásból végrehajtott beruházás mekkora egyenletes hozamok mellett, mikor, milyen elvárt hozam (kalkulált kamatláb) mellett térül me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ruházás gazdaságosságának megítélésére a felvett speciális esetben különböző válaszok, módszerek állnak rendelkezés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gyes módszerek aszerint különböznek egymástól, hogy melyik kérdésre keressük a válasz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általános esethez hasonlóan alkalmazot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tó jelenérték módsz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ijelölt vetítési időpontra, a jelenre" átszámítja a beruházás és a jövőbeni hozamok, illetve tőketerhek értéké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 a különbség nulla, a beruházás éppen megtérü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ülönbség pozitív értékével a gazdaságosság növekszi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ső beruházá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 áll rendelkezésre múltbéli összehasonlító objekt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ótló beruházá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yik elhasznált eszköz lecserélése, pótlása egy másik, hasonló eszközz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cionalizáló beruházá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zközök cseréje gazdaságosabban alkalmazható másik eszköz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ővítő beruházá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 eszközállomány bővítése, amely történh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j eszköz beszerzéséve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glévő eszköz cseréjével nagyobb teljesítményű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glévő eszköz javítása, korszerűsíté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ötelező beruházá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gszabály, vagy hatóság előírása alapján szükséges beruházás, pl. a környezetvédelem, az üzembiztonság érdekéb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jövőbeni egyenletes hozamokat, amelyeknek a beruházási időpontra diszkontált értéke éppen a beruházás értékével egyenlő,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nnuitásnak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s szokás nevezn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ámításokban a törlesztőfaktor reciprokat, az un. annuitás tényezőt is használjá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ruházás átlagos megtérülési hozamát az un.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belső kamatláb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ejezi k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első kamatláb a beruházásba fektetett tőke tényleges kamatozása. Ezt összehasonlítjuk az elvárt, normatív kamatlábbal, és ha nagyobb annál, akkor a beruházás célszerű és gazdaság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ruházások értékelése történh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azdaságosság, rentabilitá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inanszírozhatósá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inősé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kockázat  alapjá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időtényező alapján a gazdaságossági számítások lehetn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kus 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namikus jellegű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kus gazdaságossági vizsgálato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okás végezni az egy időben, egyszerre, vagy elhanyagolhatóan kis különbséggel lejátszódó gazdasági események mérlegelésekor, vagy olyan feltételezés mellett, hogy a reálfolyamatok értékarányaiban a vizsgálati idő alatt számottevő torzító hatás nem következik be az idő függvényéb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szeri ráfordítások statikus feltételezését reprezentálják az un. pontberuházások, egy új gyártóberendezés üzembeállítása, felszerszámozá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zámítás lényege, hogy a ráfordítások és az eredmények a felmerülés nominálértékén kerülnek számbavételre, minden korrekció nélkü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namikus gazdaságossági vizsgál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etén a viszonylag nagy időintervallumban végbemenő, számszerűsített gazdasági események összehasonlításakor figyelembe kell venni az időtényezőt, amely a ráfordításokat és eredményeket az időtengelyen mért elhelyezkedésük függvényében differenciáltan módosít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ltalában ilyen jellegű gazdaságossági vizsgálatokat célszerű végezni minden, hosszabb ideig tartó fejlesztési, beruházási, termelési folyamat gazdaságossági elemzések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adott összegű mai bevétel, eredmény többet ér, mint egy ugyanilyen összegű jövőbeni bevétel, vagy eredmé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mai kiadás, ráfordítás nagyobb terhet jelent, mintha ugyanezt az összeget csak a jövőben kellene kiad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t, hogy a mai forint mennyivel ér többet, mint a jövőbeni, az időpreferencia mértéke, felértékelési rátája határozza me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lértékelési rátá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matlább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jezik ki. Ha időpreferencia mértéke pl. 10%, akkor egy mai 10 millió forintos ráfordítás, vagy bevétel egyenértékű 11 millió forintos, egy évvel elhalasztható kiadással, vagy egy év múlva esedékes 11 millió forintos bevétell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 a törvényszerűség a mainál korábbi időpontokra is vonatkozik, ilyenkor a maival egyenértékű korábbi, kisebb összeget diszkontálással kell meghatároz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3T23:48:56Z</dcterms:created>
  <dc:creator>Laci</dc:creator>
  <dc:description/>
  <dc:language>en-US</dc:language>
  <cp:lastModifiedBy>Laci</cp:lastModifiedBy>
  <dcterms:modified xsi:type="dcterms:W3CDTF">1980-01-04T04:08:19Z</dcterms:modified>
  <cp:revision>2</cp:revision>
  <dc:subject/>
  <dc:title>1. dia</dc:title>
</cp:coreProperties>
</file>